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C77-0EFA-485A-AAA7-D9AD870D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482-EDAE-4F59-BE92-98A36126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97D-B255-4B97-BCC5-3D1BF78E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F49-CFCE-486F-A921-D5386745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F1B-ACDB-4C7E-A851-F37F2B00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4E5-4CC2-4EC9-9C82-78775ADD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DCF-B303-4A74-9213-ECC7C29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92E-BB77-4C48-8690-7A856A3D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E3D-EB8B-4AE2-9FF1-035A191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EA2-C44E-4633-870D-A6CFA52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218-1D74-4B82-B153-F57E631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4E8-E400-4A93-A283-E4687F1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5AE-3602-4F5E-BBF9-13EC640AF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20640"/>
            <a:ext cx="1873080" cy="1008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115640" y="1628640"/>
            <a:ext cx="142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268360" y="691920"/>
            <a:ext cx="158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260280"/>
            <a:ext cx="2089080" cy="865080"/>
          </a:xfrm>
          <a:prstGeom prst="rect">
            <a:avLst/>
          </a:prstGeom>
          <a:solidFill>
            <a:srgbClr val="fda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al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836640"/>
            <a:ext cx="719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084720" y="54900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0"/>
            <a:ext cx="1295640" cy="765000"/>
          </a:xfrm>
          <a:prstGeom prst="rect">
            <a:avLst/>
          </a:prstGeom>
          <a:solidFill>
            <a:srgbClr val="fda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1413000"/>
            <a:ext cx="1295280" cy="1728720"/>
          </a:xfrm>
          <a:prstGeom prst="rect">
            <a:avLst/>
          </a:prstGeom>
          <a:solidFill>
            <a:srgbClr val="fda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1484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628640"/>
            <a:ext cx="2879640" cy="165600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299736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429000"/>
            <a:ext cx="1079640" cy="151128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300360" y="486900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451280" y="501336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5661000"/>
            <a:ext cx="1512720" cy="50328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 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661000"/>
            <a:ext cx="1295640" cy="720720"/>
          </a:xfrm>
          <a:prstGeom prst="rect">
            <a:avLst/>
          </a:prstGeom>
          <a:solidFill>
            <a:srgbClr val="eaa6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276640"/>
            <a:ext cx="2305080" cy="1873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le pers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aese se 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653000"/>
            <a:ext cx="2233440" cy="194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,anch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9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581360"/>
            <a:ext cx="1728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43280" y="515772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950080"/>
            <a:ext cx="792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5516640"/>
            <a:ext cx="865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08464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6093000"/>
            <a:ext cx="1081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11Z</dcterms:created>
  <dc:creator>studente</dc:creator>
  <dc:description/>
  <dc:language>en-US</dc:language>
  <cp:lastModifiedBy>studente</cp:lastModifiedBy>
  <dcterms:modified xsi:type="dcterms:W3CDTF">2016-12-05T09:01:48Z</dcterms:modified>
  <cp:revision>3</cp:revision>
  <dc:subject/>
  <dc:title>Diapositiva 1</dc:title>
</cp:coreProperties>
</file>